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41F95-8BBB-4396-AF27-AC78C394903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3E2C6-9351-4A32-92AB-862F09BC91B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BF7FC-2F80-4832-A49E-AE1A6C57D3D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60CEC-C2D5-46A3-9DC3-633690F049B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991B-D1DE-401F-A873-7CDE35F7954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B77EB-38E0-4B95-BE38-C1CCA15ED7C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4F99F-EA44-433F-B845-6F2F22B36BD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1647-0E84-4218-90CF-280ED89D1CF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817C4-0EF9-49C0-9052-FC6DFF0E9F4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F1C5E-262B-46F6-8565-1E4333938170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6DBC-6E7D-493E-88D3-C5CA83918C2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5F941F-B166-4BC4-A0C8-8DEDCE958B8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0671A-7B88-4DF0-9089-4A53D1DCF09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F572-234B-4AAD-9AE0-F77C9BAA6BC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50CB0-072A-48AE-8703-1420772714A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350FC-4BBE-4693-B67E-BA4BAF57B0B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6E8FD-0122-459B-B361-53C42EF25DF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C2D23-F74F-449B-A25D-AE5B8FE959A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39F2C-4FF3-495E-BBE7-D2EAB84A761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87CD2-777C-44CA-B4FD-5C2B3E1D7525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0E4072-F34E-4170-A377-3F741352E97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CE1E3-39ED-49DC-9C6C-F00D09A9676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FF482-807F-4476-A0C7-7BE98B5897AE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B1B15-3C86-4DEC-9928-CFAE3F01625F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86CE5-191A-4782-8AA7-FE291EFB14D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271A65-D7AC-4523-8EA0-D2D4D087D36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45A40-17F5-433B-A465-D1DC43C71C8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6E2F-504D-498F-BA55-57FC75458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EA49B-DBF5-45CA-8E92-AB532EDBF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C31A-88AC-46DC-9EFC-3E9E14820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F601-B13B-4B70-BD1E-6B1BCC5E4E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85B0-EBA7-4AAC-8BC0-B8045254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C12D-896B-45E2-B79E-44E508877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45E38-33E2-492D-B064-C962BE766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5D96-EC80-4093-95F6-03956DA31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5EFE8-10D8-4F8C-9B14-CA41EADC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DAD45-8233-4139-9D3B-10B47D45A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F7A1B-ED26-4A56-A7FC-3E07016DF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80FB-4E1D-4AB7-B951-7A619635E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2CBC8-10CB-48FF-9999-0F8B9B1DD332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ΜΕΤΑΒΟΛΙΣΜΟΣ ΤΟΥ ΣΙΔΗΡ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ΚΑΤΑΝΟΜΗ ΣΤΟΝ ΟΡΓΑΝΙΣΜ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75-90%  στα ερυθρά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: Το μεγαλύτερο μέρος, περίπου 75-90% του συνολικού, βρίσκεται στα ερυθρά αιμοσφαίρια. Σε 1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ml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συμπυκνωμένων ερυθρών υπάρχει περίπου 1 </a:t>
            </a:r>
            <a:r>
              <a:rPr b="0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σίδηρο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6% στη μυοσφαιρίνη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: Περίπου 6% του συνόλου βρίσκεται στη μυοσφαιρίνη και σε ορισμένα άλλα ένζυμα (καταλάση, κυτόχρωμα κλπ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Το υπόλοιπο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βρίσκεται αποθηκευμένο στο μυελό των οστών, στα ηπατοκύτταρα και τα μακροφάγα, με μορφή φεριτίνης και αιμοσιδηρίνη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ff0000"/>
                </a:solidFill>
                <a:uFillTx/>
                <a:latin typeface="Calibri"/>
              </a:rPr>
              <a:t>Στο πλάσμα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βρίσκεται το 0,1% συνδεδεμένο με τρανσφερίν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ΑΠΟΡΡΟΦΗΣΗΣ (1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39280" y="1268280"/>
            <a:ext cx="8147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απορρόφηση του σιδήρου ρυθμίζεται τουλάχιστον από 4 μηχανισμού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ις αποθήκες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ν ερυθροποίη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ν υποξ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 φλεγμον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3 τελευταίοι μηχανισμοί συνδέονται με μείωση του σιδήρου στον οργανισμό (σιδηροπενία) ή με αύξηση των αναγκών  σε σίδηρ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ημαντικός ο ρόλος της </a:t>
            </a:r>
            <a:r>
              <a:rPr b="1" lang="el-GR" sz="2800" spc="-1" strike="noStrike" u="sng">
                <a:solidFill>
                  <a:srgbClr val="ff0000"/>
                </a:solidFill>
                <a:uFillTx/>
                <a:latin typeface="Calibri"/>
              </a:rPr>
              <a:t>εψιδίνης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που επεμβαίνει σε όλους τους μηχανισμού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ΑΠΟΡΡΟΦΗΣΗΣ (2)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539280" y="1268280"/>
            <a:ext cx="814716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έλλειψη σιδήρου προκαλεί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- Αύξηση των ενζύμων απορρόφησης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- Αύξηση της φερροπορτίνης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έτσι ώστε να διευκολύνεται η πρόσληψη του σιδήρου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αι η μεταφορά του προς το πλάσμ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ΠΟΘΗΚΕΥΣΗ ΣΙΔΗΡΟΥ ΣΤΟ ΗΠΑΡ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268280"/>
            <a:ext cx="8362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To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ηπαρ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ποτελεί την κύρια αποθήκη σιδήρου. Τα ηπατοκύτταρα προσλαμβάνουν σίδηρο μέσω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υποδοχέων τρανσφερίνης (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TfR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)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ι τον αποθηκεύουν μέσα στο κύτταρο ω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φεριτίνη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002060"/>
                </a:solidFill>
                <a:uFillTx/>
                <a:latin typeface="Calibri"/>
              </a:rPr>
              <a:t>Ο έλεγχος απορρόφησης </a:t>
            </a:r>
            <a:r>
              <a:rPr b="0" lang="en-US" sz="3000" spc="-1" strike="noStrike" u="sng">
                <a:solidFill>
                  <a:srgbClr val="002060"/>
                </a:solidFill>
                <a:uFillTx/>
                <a:latin typeface="Calibri"/>
              </a:rPr>
              <a:t>Fe </a:t>
            </a:r>
            <a:r>
              <a:rPr b="0" lang="el-GR" sz="3000" spc="-1" strike="noStrike" u="sng">
                <a:solidFill>
                  <a:srgbClr val="002060"/>
                </a:solidFill>
                <a:uFillTx/>
                <a:latin typeface="Calibri"/>
              </a:rPr>
              <a:t>από το ηπατοκύτταρο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θορίζεται από (α) του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υποδοχείς</a:t>
            </a: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 TfR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και (β) τα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επίπεδα της φεριτίνης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. Αυξημένη έκφραση των 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TfR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οδηγεί σε αυξημένη πρόσληψη σιδήρου στο ηπατοκύτταρο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 ηπατοκύτταρα προσλαμβάνουν και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ελεύθερο σίδηρο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(μη-συνδεδεμένο με τρανσφερίνη) όταν τα επίπεδα σιδήρου του πλάσματος υπερβαίνουν τη δεσμευτική ικανότητα της τρανσφερίνης (π.χ. σε αιμοχρωμάτωση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ΕΛΕΥΘΕΡΩΣΗ ΣΙΔΗΡΟΥ ΑΠΌ ΗΠΑΡ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Η αποβολή του σιδήρου από το ηπατοκύτταρο γίνεται με μεσολάβηση της </a:t>
            </a:r>
            <a:r>
              <a:rPr b="0" lang="el-GR" sz="3200" spc="-1" strike="noStrike">
                <a:solidFill>
                  <a:srgbClr val="ff0000"/>
                </a:solidFill>
                <a:latin typeface="Calibri"/>
              </a:rPr>
              <a:t>φερροπορτίνης</a:t>
            </a: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 όπως και στο εντεροκύτταρο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Calibri"/>
              </a:rPr>
              <a:t>Η φερροπορτίνη ασκεί βασικό ρόλο στην ομοιόσταση του σιδήρου στον οργανισμό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ΕΨΙΔΙΝ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196640"/>
            <a:ext cx="82296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Κύριος ρυθμιστής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όλων των πρωτεϊνών που συμμετέχουν στην απορρόφηση και το μεταβολισμό του σιδήρου είναι η </a:t>
            </a:r>
            <a:r>
              <a:rPr b="0" lang="el-GR" sz="2700" spc="-1" strike="noStrike">
                <a:solidFill>
                  <a:srgbClr val="ff0000"/>
                </a:solidFill>
                <a:latin typeface="Calibri"/>
              </a:rPr>
              <a:t>εψιδίνη (</a:t>
            </a:r>
            <a:r>
              <a:rPr b="0" lang="en-US" sz="2700" spc="-1" strike="noStrike">
                <a:solidFill>
                  <a:srgbClr val="ff0000"/>
                </a:solidFill>
                <a:latin typeface="Calibri"/>
              </a:rPr>
              <a:t>hepcidin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)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Είναι πεπτίδιο με 25 αμινοξέα που υπάρχει στο αίμα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Παραγωγή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: Παράγεται στο ήπαρ και αποβάλλεται στα ούρα.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 u="sng">
                <a:solidFill>
                  <a:srgbClr val="002060"/>
                </a:solidFill>
                <a:uFillTx/>
                <a:latin typeface="Calibri"/>
              </a:rPr>
              <a:t>Δράση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: Κύτταρα-στόχοι της εψιδίνης είναι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τα κύτταρα του 12δακτύλου,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τα μακροφάγα του ΔΕ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                </a:t>
            </a: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- και το ηπατοκύτταρο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2060"/>
                </a:solidFill>
                <a:latin typeface="Calibri"/>
              </a:rPr>
              <a:t>Η αυξημένη παραγωγή εψιδίνης οδηγεί σε μειωμένη απορρόφηση σιδήρου από το εντεροκύτταρο και μειωμένη απελευθέρωση από τα μακροφάγ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ΡΥΘΜΙΣΗ ΕΨΙΔΙΝΗ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παραγωγή της εψιδίνης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επηρεάζονται από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ις αποθήκες σιδήρου του οργανισμού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ερυθροποιητική δραστηριότητα του μυελού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 συγκέντρωση αιμοσφαιρίνης στο μυελό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περιεκτικότητα του αίματος σε Ο</a:t>
            </a:r>
            <a:r>
              <a:rPr b="0" lang="el-GR" sz="28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την παρουσία ή απουσία φλεγμονωδών κυτταροκινών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ΕΛΕΥΘΕΡΩΣΗ 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e</a:t>
            </a: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 ΜΕΤΑ ΚΑΤΑΣΤΡΟΦ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456840" y="1600200"/>
            <a:ext cx="8435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 γηρασμένα ερυθρά καταστρέφονται στο δικτυοενδοθηλιακό σύστημα (ΔΕΣ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ο ΔΕΣ, με τη βοήθεια τη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οξυγενάσης της αίμης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, ο σίδηρος της αιμοσφαιρίνης απελευθερώνεται για να επαναχρησιμοποιηθεί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Ένα μέρος του αποθηκεύεται στα μακροφάγα ως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φεριτίνη 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αι ένα μέρος του αποβάλλεται με τη μεσολάβηση της φερροπορτίνης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Οι κυτταροκίνες διεγείρουν τη δράση της οξυγενάσης της αίμη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49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00ff"/>
                </a:solidFill>
                <a:latin typeface="Calibri"/>
              </a:rPr>
              <a:t> </a:t>
            </a:r>
            <a:r>
              <a:rPr b="1" lang="el-GR" sz="3200" spc="-1" strike="noStrike">
                <a:solidFill>
                  <a:srgbClr val="0000ff"/>
                </a:solidFill>
                <a:latin typeface="Calibri"/>
              </a:rPr>
              <a:t>ΚΥΚΛΟΣ ΤΟΥ ΣΙΔΗΡΟΥ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3" descr="3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ΜΟΡΙΑ ΠΟΥ ΜΕΤΕΧΟΥΝ ΣΤΟ ΜΕΤΑΒΟΛΙΣΜΟ ΤΟΥ ΣΙΔΗΡΟ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457200" y="1600200"/>
          <a:ext cx="8507520" cy="4662360"/>
        </p:xfrm>
        <a:graphic>
          <a:graphicData uri="http://schemas.openxmlformats.org/drawingml/2006/table">
            <a:tbl>
              <a:tblPr/>
              <a:tblGrid>
                <a:gridCol w="3178080"/>
                <a:gridCol w="5329440"/>
              </a:tblGrid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ΜΟΡΙ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ffffff"/>
                          </a:solidFill>
                          <a:latin typeface="Calibri"/>
                          <a:ea typeface="Calibri"/>
                        </a:rPr>
                        <a:t>ΔΡΑΣ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MT1</a:t>
                      </a: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, </a:t>
                      </a:r>
                      <a:r>
                        <a:rPr b="1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Dcytb</a:t>
                      </a: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2- εντός του κυττάρου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Φεροπορτ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από εντεροκύτταρα σε πλάσμ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9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Τρανσφερ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στο πλάσμα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07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Υποδοχέας τρανσφερίνη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Σύνδεση με τρανσφερίνη για μεταφορά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 στο εσωτερικό των κυττάρων-στόχω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Φεριτ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Αποθήκευση ενδοκυττάριου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71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Αιμοσιδηρ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Σταθερότερη μορφή φεριτίνης (αποθήκευση ενδοκυττάριου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20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Οξυγενάση της αίμης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Διάσπαση αίμης - απελευθέρωση </a:t>
                      </a:r>
                      <a:r>
                        <a:rPr b="0" lang="en-US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F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8556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Εψιδίνη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200" spc="-1" strike="noStrike">
                          <a:solidFill>
                            <a:srgbClr val="1f497d"/>
                          </a:solidFill>
                          <a:latin typeface="Calibri"/>
                          <a:ea typeface="Calibri"/>
                        </a:rPr>
                        <a:t>Ρυθμιστής όλων των ανωτέρω μορίων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ΣΙΔΗΡΟ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ε ανεπαρκή πρόσληψη σιδήρου, περιορίζεται η σύνθεση της αιμοσφαιρίνης      αναιμ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α ερυθρά είναι υπόχρωμα και μικρότε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υπόχρωμη μι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ιτίε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α) Μειωμένη πρόσληψη ή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(β) αυξημένη απώλεια (π.χ. σε χρόνια αιμορραγία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Line 4"/>
          <p:cNvSpPr/>
          <p:nvPr/>
        </p:nvSpPr>
        <p:spPr>
          <a:xfrm>
            <a:off x="3492360" y="198900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400" spc="-1" strike="noStrike">
              <a:solidFill>
                <a:srgbClr val="31859c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1859c"/>
                </a:solidFill>
                <a:latin typeface="Calibri"/>
              </a:rPr>
              <a:t>ΑΙΜΟΣΙΔΗΡΩΣΗ - ΑΙΜΟΧΡΩΜΑΤΩΣ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31859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ΙΜΟΣΙΔΗΡΩΣΗ - ΑΙΜΟΧΡΩΜΑΤΩΣΗ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Η αύξηση της ποσότητας του σιδήρου που είναι αποθηκευμένος στο σώμα ονομάζεται αιμοσιδήρωση. Το πλεόνασμα είναι ορατό στο μικροσκόπιο, ως αιμοσιδηρίνη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Μπορεί να είναι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πρωτοπαθής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(κληρονομική αιμοχρωμάτωση) ή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δευτεροπαθής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ΠΡΩΤΟΠΑΘΗΣ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Η πρωτοπαθής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αιμοσιδήρωση ή κληρονομική αιμοχρωμάτωση οφείλεται σε μεταλλάξεις γονιδίων (κυρίως του γονιδίου HFE) που συμβάλουν στη ρύθμιση του μεταβολισμού του σιδήρ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Κύρια διαταραχή είναι </a:t>
            </a:r>
            <a:r>
              <a:rPr b="0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η αύξηση της απορρόφησης σιδήρου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, λόγω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- είτε ελάττωσης της εψιδίνης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- είτε λόγω αντίστασης φερροπορτίνη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ΤΙ ΠΡΟΚΑΛΕΙ Η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ροκαλεί βλάβες οργάνων (ήπαρ, σπλήνα, πάγκρεας, υπόφυση, δέρμα, αρθρώσεις, μυοκάρδιο) με διάφορες εκδηλώσει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Ηπαρ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ίρρωση ή ίνω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άγκρεας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Διαβήτη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οκάρδιο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οκαρδιοπάθει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Υπόφυση: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ειρότητα, οστεοπενία-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         οστεοπόρω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ΕΡΓΑΣΤΗΡΙΑΚΑ ΕΥΡΗΜΑΤ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Γενική αίματος φυσιολογική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</a:t>
            </a:r>
            <a:r>
              <a:rPr b="0" lang="en-US" sz="3000" spc="-1" strike="noStrike">
                <a:solidFill>
                  <a:srgbClr val="002060"/>
                </a:solidFill>
                <a:latin typeface="Calibri"/>
              </a:rPr>
              <a:t>CV</a:t>
            </a: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 στα ανώτερα φυσιολογικά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υξημένος σίδηρος ορο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υξημένος κορεσμός τρανσφερίνης (&gt;50%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ύξηση φεριτίνης (αργότερα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την βιοψία ήπατος επιβεβαιώνεται η αύξηση του σιδήρο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ΘΕΡΑΠΕ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Τακτικές αφαιμάξεις  για απομάκρυνση της περίσσειας σιδήρου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ντιμετώπιση λειτουργικών επιπτώσεων στα όργαν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ΔΕΥΤΕΡΟΠΑΘΗΣ ΑΙΜΟΣΙΔΗΡΩΣΗ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ff0000"/>
                </a:solidFill>
                <a:latin typeface="Calibri"/>
              </a:rPr>
              <a:t>ΑΙΤΙ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πορεί να αναπτυχθεί  σε πολλές επίκτητες ή κληρονομικές παθήσεις, όπως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Κληρονομικές αιμοσφαιρινοπάθειες (μεσογειακή αναιμία, δρεπανοκυτταρική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Σιδηροβλαστικές αναιμί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ιμολυτικές αναιμίε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Ατελής ερυθροποίηση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Μυελοδυσπλαστικά σύνδρομ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002060"/>
                </a:solidFill>
                <a:latin typeface="Calibri"/>
              </a:rPr>
              <a:t>Πολλαπλές μεταγγίσει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Ο ΣΙΔΗΡΟΣ ΣΤΟΝ ΟΡΓΑΝΙΣΜ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484280"/>
            <a:ext cx="807552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α νεογνά, τα αποθέματα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φτάνουν τα 75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/kgr,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λλά σταδιακά μειώνονται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ους ενήλικες άνδρες περιορίζονται σε 50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/kgr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στις γυναίκες προ εμμηνόπαυσης 35-40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gr/kgr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τσι, ο φυσιολογικός ενήλικας έχει στο σώμα του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 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4-5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gr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ΝΑΓΚΕΣ ΣΕ ΣΙΔΗΡ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ρόσληψη σιδή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μέση διατροφή έχει 10-15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/μέρα και απορροφάται το 10%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ε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normal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υνθήκες, η ημερήσια πρόσληψη είναι περίπου 1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είναι ίση με τις ημερήσιες απώλειε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πώλειες σιδή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μερήσιες απώλειες οφείλονται στην καθημερινή απόπτωση (θάνατο) κυττάρων του εντερικού βλεννογόνου και του δέρματο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Απώλειε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:  Οι άνδρες χάνουν 1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έ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ι γυναίκες χάνουν 1,5-2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μέ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31859c"/>
                </a:solidFill>
                <a:latin typeface="Calibri"/>
              </a:rPr>
              <a:t>ΑΠΟΡΡΟΦΗΣΗ ΣΙΔΗΡΟΥ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O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ίδηρος απορροφάται στο 12δάκτυλο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οργανικός  σίδηρος (δηλαδή ο συνδεδεμένος με την αίμη) απορροφάται πιο εύκολα, ως αυτούσια αίμη (αποτελεί τα 2/3 του συνολικά απορροφούμενου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ανόργανος απορροφάται πιο δύσκολ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απορρόφηση του ανόργανου γίνεται μετά από αναγωγή του τρισθενούς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ε δισθενή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με τη βοήθεια ενζύμων (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MT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cytb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600" spc="-1" strike="noStrike" baseline="30000">
                <a:solidFill>
                  <a:srgbClr val="002060"/>
                </a:solidFill>
                <a:latin typeface="Calibri"/>
              </a:rPr>
              <a:t>2-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υνδέεται με τον υποδοχέα των εντερικών κυττάρων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DMT1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ου μεταφέρει τον 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e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στο εσωτερικό του κυττάρου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Η απορρόφηση αυξάνει όταν αυξάνουν οι ανάγκες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ΜΕΤΑΦΟΡΑ </a:t>
            </a:r>
            <a:r>
              <a:rPr b="1" lang="en-US" sz="4000" spc="-1" strike="noStrike">
                <a:solidFill>
                  <a:srgbClr val="31859c"/>
                </a:solidFill>
                <a:latin typeface="Calibri"/>
              </a:rPr>
              <a:t>Fe </a:t>
            </a: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ΑΠΌ ΤΟ ΕΝΤΕΡΟ ΣΤΟ ΠΛΑΣΜ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7200" y="1700280"/>
            <a:ext cx="8229600" cy="442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Μέσα στο εντεροκύτταρο</a:t>
            </a:r>
            <a:r>
              <a:rPr b="1" lang="en-US" sz="2800" spc="-1" strike="noStrike" u="sng">
                <a:solidFill>
                  <a:srgbClr val="002060"/>
                </a:solidFill>
                <a:uFillTx/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α) 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M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ικρή ποσότητα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ποθηκεύεται στο εντεροκύτταρο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φερριτίνη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αι αποβάλλεται κατά την απόπτωση του εντεροκυττά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β)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υπόλοιπο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μεταφέρεται από το εντεροκύτταρο προς στο πλάσμα του αίματος, συνδεδεμένος με τη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φερροπορτίνη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 Κατά τη μεταφορά προς το πλάσμα, ο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δισθενή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μετατρέπεται εκ νέου σε τρισθενή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Fe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ΜΕΤΑΦΟΡΑ ΣΙΔΗΡΟΥ ΣΤΟ ΑΙΜ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89647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Στο πλάσμα συνδέεται με την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ποτρανσφερίνη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και μετατρέπεται σε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τρανσφερίνη (Τ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f)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ου πλάσματος, που μεταφέρει το σίδηρο στην κυκλοφορία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Κάθε μόριο τρανσφερίνης μπορεί να μεταφέρει δύο άτομα σιδήρου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26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 βαθμός κορεσμού των θέσεων τρανσφερίνης συνδέεται με τη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Συνολική Σιδηροδεσμευτική Ικανότητα (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TIBC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100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31859c"/>
                </a:solidFill>
                <a:latin typeface="Calibri"/>
              </a:rPr>
              <a:t>ΤΡΑΝΣΦΕΡΙΝΗ – ΕΙΣΟΔΟΣ ΣΤΟΥΣ ΕΡΥΘΡΟΒΛΑΣΤ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34100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3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τρανσφερίνη, ως 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σύμπλοκο τρανσφερίvης-Fe+</a:t>
            </a:r>
            <a:r>
              <a:rPr b="1" lang="el-GR" sz="2200" spc="-1" strike="noStrike" baseline="30000">
                <a:solidFill>
                  <a:srgbClr val="ff0000"/>
                </a:solidFill>
                <a:latin typeface="Calibri"/>
              </a:rPr>
              <a:t>3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,  κατευθύνεται στα όργανα-στόχους, τους ερυθροβλάστες και σε άλλα πολλαπλασιαζόμενα κύτταρα. Το σύμπλοκο τρανσφερίvης-Fe+</a:t>
            </a:r>
            <a:r>
              <a:rPr b="0" lang="el-GR" sz="2200" spc="-1" strike="noStrike" baseline="30000">
                <a:solidFill>
                  <a:srgbClr val="002060"/>
                </a:solidFill>
                <a:latin typeface="Calibri"/>
              </a:rPr>
              <a:t>3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 συνδέεται με ειδικούς υποδοχείς 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ransferin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-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receptor</a:t>
            </a:r>
            <a:r>
              <a:rPr b="1" lang="el-GR" sz="2200" spc="-1" strike="noStrike">
                <a:solidFill>
                  <a:srgbClr val="ff0000"/>
                </a:solidFill>
                <a:latin typeface="Calibri"/>
              </a:rPr>
              <a:t>)(</a:t>
            </a:r>
            <a:r>
              <a:rPr b="1" lang="en-US" sz="2200" spc="-1" strike="noStrike">
                <a:solidFill>
                  <a:srgbClr val="ff0000"/>
                </a:solidFill>
                <a:latin typeface="Calibri"/>
              </a:rPr>
              <a:t>TfR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) της επιφάνειας των κυττάρων που συμβάλλουν στην ενδοκυττάρια είσοδό τ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Τα ερυθροκύτταρα και οι υποδοχείς τους κατέχουν τουλάχιστον τα 2/3 του συνολικού σιδήρου του οργανισμού (75-90%)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τρανσφερίνη μπορεί να μεταφέρει μέχρι και 12 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mg Fe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. Συνήθως όμως στον ενήλικα κυκλοφορούν μέχρι 3</a:t>
            </a:r>
            <a:r>
              <a:rPr b="0" lang="en-US" sz="2200" spc="-1" strike="noStrike">
                <a:solidFill>
                  <a:srgbClr val="002060"/>
                </a:solidFill>
                <a:latin typeface="Calibri"/>
              </a:rPr>
              <a:t>mg 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συνδεδεμένου σιδήρου.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Η δεξαμενή του συνδεδεμένου με την τρανσφερίνη σιδήρου ανακυκλώνεται μέχρι και 10 φορές την ημέρα  προκειμένου να καλύψει τις ανάγκες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 u="sng">
                <a:solidFill>
                  <a:srgbClr val="002060"/>
                </a:solidFill>
                <a:uFillTx/>
                <a:latin typeface="Calibri"/>
              </a:rPr>
              <a:t>Ρύθμιση</a:t>
            </a:r>
            <a:r>
              <a:rPr b="0" lang="el-GR" sz="2200" spc="-1" strike="noStrike">
                <a:solidFill>
                  <a:srgbClr val="002060"/>
                </a:solidFill>
                <a:latin typeface="Calibri"/>
              </a:rPr>
              <a:t>: Η παραγωγή τρανσφερίνης έχει άμεση σχέση με τα επίπεδα του σιδήρου του οργανισμού: Αυξάνεται σε σιδηροπενία και μειώνεται σε καταστάσεις υπερφόρτωσης με σίδη­ρο και στην αναιμία χρόνιας νόσ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229600" cy="7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31859c"/>
                </a:solidFill>
                <a:latin typeface="Calibri"/>
              </a:rPr>
              <a:t>ΑΠΟΘΗΚΕΥΣΗ ΣΙΔΗΡΟΥ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26920" y="981000"/>
            <a:ext cx="763272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α επιπλέον ποσά αποθηκεύονται με τη μορφ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φεριτίνη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ιμοσιδηρίνης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στο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ήπαρ,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σπλήνα και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 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- μυελό οστ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1:01:04Z</dcterms:created>
  <dc:creator>TEI LARISA</dc:creator>
  <dc:description/>
  <dc:language>en-US</dc:language>
  <cp:lastModifiedBy>Χρήστος</cp:lastModifiedBy>
  <dcterms:modified xsi:type="dcterms:W3CDTF">2015-04-02T04:56:10Z</dcterms:modified>
  <cp:revision>30</cp:revision>
  <dc:subject/>
  <dc:title>Παρουσίαση του PowerPoint</dc:title>
</cp:coreProperties>
</file>